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28D-0114-4432-BA1E-E6F8532C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0A2-F75B-463A-996C-3F4DBE06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C93-F02F-4561-85CE-EBEFB005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F6E-BA18-452C-BBEC-6CD57B5E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7CCD-C6CD-44E9-89C3-DAB04850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5122-05DC-4966-B715-F6603D46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B9F0-97DB-4E54-9477-2A5261B4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2828-63BB-4F3E-BECF-292C6077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EE19-E785-49CA-8E35-F77B4CEC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4DDD-5D0C-4C45-B02F-E06EE6E9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7FE2-F89B-4427-A9DC-A5039804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125-8EC4-4C0C-8249-1A2230E2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D8F8-8212-4A0C-A98E-4A628FE5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E577-E2F0-461F-8613-EB96566D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9407-51FD-4C20-AA6B-12482150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1FF1-B917-4DA0-8DD4-CFC96C3F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F6BD-3BEE-4C35-9955-2657C284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94318-02FD-4319-A951-B8E56999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7B497-3106-449B-9B95-310F12C3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6DCD1-0B89-44C3-8275-9AEDBD94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F25F5-D5BA-4FF5-93D2-BB6F187E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9B3A8-0553-4328-83F7-2E61EE19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CE20-36A6-42E0-AC61-D938613C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32E6A-72AB-4B23-803B-6B5B05FD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39E12-660D-41AD-A8AF-E9FE77C0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A9859-25CF-4BEB-B9A9-F77B69F0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179AE-E982-4E58-96A2-C7BDFE26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D4BAC-A8BB-41C9-AA2E-BFCC717F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16653-D47C-475A-B734-BFE9AF07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EDFD2-2533-46F9-9283-C5E3DCFC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CA9DA9-38C2-44DA-B8E0-7C43AE8E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DA50D-6542-4981-AC9F-BDF4C441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1F6BC-078A-47D6-A029-97ED352F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867-2775-4BE7-AE42-48F5E004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36E61-1FAF-498D-B0F3-132ED055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125B8-A734-481E-A6EA-20816E3C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5F2658-09E6-45AE-9EAC-F9E1B03C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6ECA5-2C14-458E-9740-2FD26199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A0325-1BAE-4CCE-A5F7-31AB0280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754263-EB5F-4562-83A2-70F04E71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F2F454-2F37-4176-9F9C-2E09083A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18A74-1345-4A92-AB64-BF3DB48D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288B3-265A-4D9A-8126-F34400F3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239D3-4120-401F-BC69-00DD5269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8DE-87F5-4183-B763-6C074AE0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DFAEE-677A-43F0-BB39-BAD300A4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8D0A4-CC86-4F62-90EC-BE16E7A2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51FFC7-9BDE-4A6B-B0B1-FBE8E6A8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1066C0-3BE6-4FBC-9F61-EB8CA88F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22A22-AEE7-49CA-9350-1E23FA75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5E175-9F6F-47AD-99DF-58ADE99E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79DE2-F516-416B-ADB6-A214DC48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696CC-58A5-46F1-B493-94CFC992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9199D-CEDF-4533-8FCD-57EB3FD2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0B173-485A-4631-8980-B410DD48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C4AB-5E2C-4FD4-A464-453305EA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1CC09-3C6B-4297-8FD2-03618155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890FD-1597-4DC2-AAC6-2CFAA2F0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8B9EC-DF7C-4959-9CFB-5A7108DC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0F7C7-76BB-4574-8EF8-DBB33160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4909E-FE7D-47D8-9D21-5D405C70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F9342-E500-4590-8384-7F99B6E0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8A356-872D-4834-AB86-65B8CD3E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F814C-7469-4E2B-A9A6-F38666F7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CB7F0-383A-448D-949D-7D147519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FE700-21D8-4D81-BA15-6402959E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369-166B-4CBC-9CCC-3AE63740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2AEDE-091D-4462-A80C-F10BE7BD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815FE-B49F-4A2A-A33D-DCC719C4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BAD8A-E865-4CD5-9FCA-8703DAC0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89BA62-15D1-4050-9CF6-EE5336C7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8698C-ED0E-47EE-BA42-0A094EB8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DDE78-D133-4504-824D-FC36DE32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23711-DBB4-4DF4-88E1-B9B8928A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1DACE2-B8BE-463D-A096-5DED0581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86E696-104D-4A8D-8A14-932C4DEF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B6824-A254-4E77-8379-188B3001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DAB0-4DC0-4999-B118-902BE687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70E3CE-6BE0-4340-B79B-F1E83561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AC613-0ADB-4D7A-9EDC-CE50B882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2DB91-5ACF-42F5-99F1-03ACF6A6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244C40-E834-4647-99F5-A5C3FB2C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FA280E-29D7-4840-9090-4BB3BA62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1B35A-DE33-4295-BDA0-F2083AED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1B44B-8146-4AC6-8F4D-A0B37A70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4CC04-8D9E-4F88-A307-44F364FD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B8E40-976A-4BBE-BFA4-110E5E6C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80693-CACB-4FB6-B4C4-219FF844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262-8589-4E2C-82DD-AA3EC26E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92BB4-93D4-41CC-B056-CCF4031E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75101-6CA8-42AA-9174-A96B4F93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C72D7-CEE3-4D0F-B4A3-A2A23CB6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2A7CD-B383-4C4D-A679-CE60245C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0BA75-330E-4783-A5D5-27097CC9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3DEAF-E1CC-4A93-81D6-5B2F4CAA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AAF8E-3553-4CE4-A948-FEAB9050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400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c0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8007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101E-95F7-49D4-9A6A-E0D5A47C2F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2d2d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400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c0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8007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A2F4-40C6-42B2-8B44-AE759C1C98F0}" type="slidenum">
              <a:rPr b="1" lang="en-US" sz="1400" spc="-1" strike="noStrike">
                <a:solidFill>
                  <a:srgbClr val="d2d2d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400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c0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8007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866F-06C2-4A9D-BB32-E9437A4DD29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400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c0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8007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4A16-6E59-4389-80B8-AC7B3E91BA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400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c0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8007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9BEB-30B7-4B7E-B944-BCC30D4083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400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c0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8007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BEED-D877-4C74-9566-3539E434B9B2}" type="slidenum">
              <a:rPr b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400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c0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8007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91EE-7006-4A40-BF51-F9C60C830A7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400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c007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68007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1F3F-4B71-473C-8D37-A1A6DCB4D1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294920"/>
            <a:ext cx="9372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Tw Cen MT"/>
              </a:rPr>
              <a:t>LES 3 PETITS COCHONS…</a:t>
            </a:r>
            <a:br>
              <a:rPr sz="4400"/>
            </a:br>
            <a:r>
              <a:rPr b="0" lang="en-US" sz="4400" spc="-1" strike="noStrike">
                <a:solidFill>
                  <a:srgbClr val="d2d2d2"/>
                </a:solidFill>
                <a:latin typeface="Tw Cen MT"/>
              </a:rPr>
              <a:t>FAIT À VOTRE STYLE!</a:t>
            </a:r>
            <a:endParaRPr b="0" lang="en-US" sz="4400" spc="-1" strike="noStrike">
              <a:solidFill>
                <a:srgbClr val="d2d2d2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Le projet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Vous allez écrire votre propre histoire de « Les trois petits cochons »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oyez aussi créatifs comme vous voulez, ou pouvez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w Cen MT"/>
              </a:rPr>
              <a:t>Autre animal?  Personnage connu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w Cen MT"/>
              </a:rPr>
              <a:t>Personnes?  Ados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w Cen MT"/>
              </a:rPr>
              <a:t>Personnes célèbres?  Politiques?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f388c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w Cen MT"/>
              </a:rPr>
              <a:t>Qui est le vilain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6666"/>
                </a:solidFill>
                <a:latin typeface="Tw Cen MT"/>
              </a:rPr>
              <a:t>Les tâches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13712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Ecrire une histoire avec un début, problème, et solution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Incluez 15 mots de vocabulaire des pages 84,90, 91 (spécialement avec les descriptions des maisons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5 phrases avec le subjonctif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Utilisez la bonne grammair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Les choix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owerPoi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Vidé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I-Vidé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??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Les</a:t>
            </a:r>
            <a:r>
              <a:rPr b="0" lang="fr-FR" sz="4400" spc="-1" strike="noStrike">
                <a:solidFill>
                  <a:srgbClr val="666666"/>
                </a:solidFill>
                <a:latin typeface="Tw Cen MT"/>
              </a:rPr>
              <a:t> tâches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1752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w Cen MT"/>
              </a:rPr>
              <a:t>Soyez créatifs et travaillez avec de l’effor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w Cen MT"/>
              </a:rPr>
              <a:t>Créer une présentation qui suit l’histoire avec des photos intéressantes et des animations bien fait et approprié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w Cen MT"/>
              </a:rPr>
              <a:t>Parlez avec de la bonne prononciat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w Cen MT"/>
              </a:rPr>
              <a:t>Soyez ponctuels avec la date!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Tw Cen MT"/>
              </a:rPr>
              <a:t>S.V.P</a:t>
            </a:r>
            <a:endParaRPr b="0" lang="en-US" sz="4400" spc="-1" strike="noStrike">
              <a:solidFill>
                <a:srgbClr val="666666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286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w Cen MT"/>
              </a:rPr>
              <a:t>Quand vous présentez, donnez-moi un script pour que je puisse suivre l’histoire!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4005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w Cen MT"/>
              </a:rPr>
              <a:t>Merci et amusez-vous!!!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http://4.bp.blogspot.com/_L2Ibg6ejNRc/SqVVPKfsN0I/AAAAAAAADB8/aSi_xTU84ZU/s320/thumbs+up+happy+face.jpg"/>
          <p:cNvPicPr/>
          <p:nvPr/>
        </p:nvPicPr>
        <p:blipFill>
          <a:blip r:embed="rId1"/>
          <a:stretch/>
        </p:blipFill>
        <p:spPr>
          <a:xfrm>
            <a:off x="6095880" y="3505320"/>
            <a:ext cx="3048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3:14:04Z</dcterms:created>
  <dc:creator>Lauren Mooney</dc:creator>
  <dc:description/>
  <dc:language>en-US</dc:language>
  <cp:lastModifiedBy>User</cp:lastModifiedBy>
  <dcterms:modified xsi:type="dcterms:W3CDTF">2009-11-19T13:48:29Z</dcterms:modified>
  <cp:revision>3</cp:revision>
  <dc:subject/>
  <dc:title>Les 3 petits cochons… fait à votre style!</dc:title>
</cp:coreProperties>
</file>